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pilabre fatimata" initials="pf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5-06-01T09:41:51.001000000" idx="1">
    <p:pos x="10" y="10"/>
    <p:text/>
  </p:cm>
  <p:cm authorId="0" dt="2015-06-01T09:48:16.910000000" idx="2">
    <p:pos x="10" y="106"/>
    <p:text>Je crois que nous avons mal placé ce dia. peut on ajouter méthodologie dans le titre du dia sinon il vient se placer au mielieu des dia méthodologie 1/2, 2/2  sans être titré métho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DE31-8862-4F58-83A0-90BF51F51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’expérience du DS de Sebba qui est appuyée par Help et avec le soutien de l’Université de Montréal pour les aspects scientifiq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C352A-AB70-4641-B421-3339FDD7C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demande DS Dori de passer au F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- Habitudes de prescriptions non changées (nombre moyen de molécules par ordonnance est de 2,5): parce que les contrôles ont été réalisés (médical et financi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B42C-0E91-44FA-B732-F8561F388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aut : effet immédiat (à l’introduction de l’intervention « FFT ») ET Tendance : effet sur la période (durant la phase étudié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7B2B-34CD-47B1-B420-9573D47553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 COMMENTER (L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9289-F2BD-4755-BAAE-FF503B9EE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njeux sur le montant forfaitai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ode de calcul :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acteur qui limite le risque financier des prestata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22A0-24EA-473D-BC59-782EB9AA31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D6E0-4EB5-41A2-A14E-3FEEBE089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F956-0167-4C37-B901-4A72381D43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mption = équité dans l’accès, filet social (pas de dépenses des ménages en matière de santé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48D3-9112-4D1D-95E2-7FB8293A1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7E44-C33A-4DBB-99C1-A42DCDBA5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5475-97D3-4D98-8F60-5B42ADEDAC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98E1-0213-4AC9-88DB-62812452C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2CC6-9B06-44CA-AF7A-672108BA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079-5C72-4DD1-8A91-5267F0B30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98D-21E2-497A-AA49-17F1E9FD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D04-8795-411B-B532-A4EFD239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CD9A-2232-422A-952D-C80D6C3C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F95-C3F3-49A0-BFC1-FCC2D031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4F86-0656-4595-916C-BE22DF39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3437-8E0E-4972-8315-478B6ED3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7465-9CAB-456D-BF5B-347EE297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6191-18CA-4FF4-AF66-F395AFB4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4F00-CD44-4E2F-B5B6-AF4EFB3F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505D-7DC6-44D0-9604-014083ADC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Graph%20Enfants.pd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0560"/>
            <a:ext cx="7772400" cy="17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L’ exemption du paiement des soins au forfait chez les enfants &lt;5ans </a:t>
            </a: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DS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98989"/>
                </a:solidFill>
                <a:latin typeface="Calibri"/>
              </a:rPr>
              <a:t>Atelier technique AMU « Panier de soins, coût et financement »</a:t>
            </a:r>
            <a:br>
              <a:rPr sz="2800"/>
            </a:br>
            <a:r>
              <a:rPr b="1" lang="fr-FR" sz="2400" spc="-1" strike="noStrike">
                <a:solidFill>
                  <a:srgbClr val="898989"/>
                </a:solidFill>
                <a:latin typeface="Calibri"/>
              </a:rPr>
              <a:t>Ouagadougou, les 9 et 10 juin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2" descr="logoHelpFr"/>
          <p:cNvPicPr/>
          <p:nvPr/>
        </p:nvPicPr>
        <p:blipFill>
          <a:blip r:embed="rId1"/>
          <a:srcRect l="2793" t="1343" r="3911" b="2686"/>
          <a:stretch/>
        </p:blipFill>
        <p:spPr>
          <a:xfrm>
            <a:off x="7620120" y="5410080"/>
            <a:ext cx="115416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1" descr="logo_fr_transp_black"/>
          <p:cNvPicPr/>
          <p:nvPr/>
        </p:nvPicPr>
        <p:blipFill>
          <a:blip r:embed="rId2"/>
          <a:stretch/>
        </p:blipFill>
        <p:spPr>
          <a:xfrm>
            <a:off x="7620120" y="380880"/>
            <a:ext cx="111744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drapeau:Burkina Faso"/>
          <p:cNvPicPr/>
          <p:nvPr/>
        </p:nvPicPr>
        <p:blipFill>
          <a:blip r:embed="rId3"/>
          <a:stretch/>
        </p:blipFill>
        <p:spPr>
          <a:xfrm>
            <a:off x="380880" y="380880"/>
            <a:ext cx="1190880" cy="784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paho\Desktop\Archives_Interim_20150523\RA FFT\Publications\Note Analyse démarche RA\MenP-G\Nvx_Logos_Mai2015\Logo_EQUITE_jpg-RVB_201505.jpg"/>
          <p:cNvPicPr/>
          <p:nvPr/>
        </p:nvPicPr>
        <p:blipFill>
          <a:blip r:embed="rId4"/>
          <a:stretch/>
        </p:blipFill>
        <p:spPr>
          <a:xfrm>
            <a:off x="3352680" y="5410080"/>
            <a:ext cx="2286000" cy="108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" descr="armoirie_BF"/>
          <p:cNvPicPr/>
          <p:nvPr/>
        </p:nvPicPr>
        <p:blipFill>
          <a:blip r:embed="rId5"/>
          <a:stretch/>
        </p:blipFill>
        <p:spPr>
          <a:xfrm>
            <a:off x="1136520" y="5297400"/>
            <a:ext cx="836640" cy="9511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990720" y="6313320"/>
            <a:ext cx="1137960" cy="19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MINISTERE DE LA SAN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ésultats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91440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aisabilité du paiement au forfait est démontr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ertinence du FFT pour l’ensemble des PP (adhésion des F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habitudes de prescriptions non chang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importante de la charge administ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minution des coûts de gestion de la subvention (support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tentiel de maitrise des coûts du paiement au F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1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6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20600" y="1314360"/>
            <a:ext cx="8858160" cy="538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1700280" y="1314360"/>
            <a:ext cx="7304040" cy="957240"/>
          </a:xfrm>
          <a:prstGeom prst="rect">
            <a:avLst/>
          </a:prstGeom>
          <a:ln w="0">
            <a:noFill/>
          </a:ln>
        </p:spPr>
      </p:pic>
      <p:cxnSp>
        <p:nvCxnSpPr>
          <p:cNvPr id="93" name="Straight Arrow Connector 8"/>
          <p:cNvCxnSpPr/>
          <p:nvPr/>
        </p:nvCxnSpPr>
        <p:spPr>
          <a:xfrm>
            <a:off x="4723920" y="320004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94" name="TextBox 9"/>
          <p:cNvSpPr/>
          <p:nvPr/>
        </p:nvSpPr>
        <p:spPr>
          <a:xfrm>
            <a:off x="4724280" y="28306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Straight Arrow Connector 10"/>
          <p:cNvCxnSpPr/>
          <p:nvPr/>
        </p:nvCxnSpPr>
        <p:spPr>
          <a:xfrm>
            <a:off x="6019920" y="3200040"/>
            <a:ext cx="259128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96" name="TextBox 11"/>
          <p:cNvSpPr/>
          <p:nvPr/>
        </p:nvSpPr>
        <p:spPr>
          <a:xfrm>
            <a:off x="6095880" y="2895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000"/>
                </a:solidFill>
                <a:latin typeface="Calibri"/>
              </a:rPr>
              <a:t>(avec risque financier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effets sur les CMM du Gr2</a:t>
            </a:r>
            <a:br>
              <a:rPr sz="44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7 CSPS – DS Sebb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6320" y="1271520"/>
            <a:ext cx="8915400" cy="5407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1444680" y="1295280"/>
            <a:ext cx="7547040" cy="1014480"/>
          </a:xfrm>
          <a:prstGeom prst="rect">
            <a:avLst/>
          </a:prstGeom>
          <a:ln w="0">
            <a:noFill/>
          </a:ln>
        </p:spPr>
      </p:pic>
      <p:cxnSp>
        <p:nvCxnSpPr>
          <p:cNvPr id="100" name="Straight Arrow Connector 8"/>
          <p:cNvCxnSpPr/>
          <p:nvPr/>
        </p:nvCxnSpPr>
        <p:spPr>
          <a:xfrm>
            <a:off x="6095520" y="3112560"/>
            <a:ext cx="129636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</p:cxnSp>
      <p:sp>
        <p:nvSpPr>
          <p:cNvPr id="101" name="TextBox 9"/>
          <p:cNvSpPr/>
          <p:nvPr/>
        </p:nvSpPr>
        <p:spPr>
          <a:xfrm>
            <a:off x="60958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b050"/>
                </a:solidFill>
                <a:latin typeface="Calibri"/>
              </a:rPr>
              <a:t>FFT S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2" name="Straight Arrow Connector 12"/>
          <p:cNvCxnSpPr/>
          <p:nvPr/>
        </p:nvCxnSpPr>
        <p:spPr>
          <a:xfrm>
            <a:off x="7467120" y="3112560"/>
            <a:ext cx="1296360" cy="1080"/>
          </a:xfrm>
          <a:prstGeom prst="straightConnector1">
            <a:avLst/>
          </a:prstGeom>
          <a:ln w="38160">
            <a:solidFill>
              <a:srgbClr val="ffc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13"/>
          <p:cNvSpPr/>
          <p:nvPr/>
        </p:nvSpPr>
        <p:spPr>
          <a:xfrm>
            <a:off x="7467480" y="27432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c000"/>
                </a:solidFill>
                <a:latin typeface="Calibri"/>
              </a:rPr>
              <a:t>FFT AR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çons apprises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ation très importan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3. Analyse descriptive des CMM (quelque soit le mode de finan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saisonnalité »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ariabilité intra/inter CSPS des CM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différenciés de l’épidémie de rougeole de 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ditions de réus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21896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jeux sur le montant forfaitaire (son calcu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ationalité des prescriptions (pratiques des AS et disponibilité des ME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mbre d’hospitalisations (rationalis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servance des traitements (≠ revisi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ortance des mesures d’accompagnement (formation des AS, filière MEG, supervision, contrôles, etc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dans les dél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0666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 FFT vs REEL au regard de ses avant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igueur dans le calcul du montant forfaitair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Veille « raisonnable » des coûts réel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disponibilité, accessibilité et fiabilité des données, méth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upless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actualisation du FFT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ctivité du contrôle et de la supervision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inclus l’utilisation de ses résulta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ractualiser le partenaria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férer les préfinancement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l’exemption (pour éviter les retards de rembours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 de l’exe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exte – Justif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éthodologie de mise en œuvre du forfa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ult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çons appri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4560" indent="-57456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comma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résentation du DS de Seb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3640" y="928440"/>
            <a:ext cx="8391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pulation du district sanitaire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210 88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SzPct val="12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publique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A: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M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SPS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ensaires isolés 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yon moyen 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: 12,7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mbre de FS remplissant les normes  minimales en personnel : </a:t>
            </a:r>
            <a:r>
              <a:rPr b="1" lang="fr-FR" sz="28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Présentation de l’exemp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28240" y="838080"/>
            <a:ext cx="89154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ébut: septembre 2008, DS de Dori et Seb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xemption du paiement des enfants de moins de 5 a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Couverture améliorée donc taux d’utilisation a augmenté (de 0.6 contact/enfant/an à 3.5) entre 2008 et 201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aux de mortalité diminué de 17% entre 2008 et 2009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Compilation par mois des ordonnances (800 à 1200 par FS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Remboursement du coût réel des prestations offertes par les FS sur la base d’une facture adressée au tiers payant via le D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texte - Jus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ffets +++ (…) de la subvention des soin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ventualité d’un « passage à l’échelle » (PàE) de la « gratuité des soins » des Enfa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5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(PNPS, MS et AMU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mboursement au réel complexe à l’échelle nationale ; expérimentation du paiement au « forfait (FFT)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périences des AA/SONU B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0320" y="1548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ircuit de remboursement et contrô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e 48"/>
          <p:cNvGrpSpPr/>
          <p:nvPr/>
        </p:nvGrpSpPr>
        <p:grpSpPr>
          <a:xfrm>
            <a:off x="380880" y="1295280"/>
            <a:ext cx="8454960" cy="4889160"/>
            <a:chOff x="380880" y="1295280"/>
            <a:chExt cx="8454960" cy="4889160"/>
          </a:xfrm>
        </p:grpSpPr>
        <p:sp>
          <p:nvSpPr>
            <p:cNvPr id="66" name="Rectangle 3"/>
            <p:cNvSpPr/>
            <p:nvPr/>
          </p:nvSpPr>
          <p:spPr>
            <a:xfrm>
              <a:off x="380880" y="1295280"/>
              <a:ext cx="1752480" cy="1265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Help ( tiers payant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Rectangle 4"/>
            <p:cNvSpPr/>
            <p:nvPr/>
          </p:nvSpPr>
          <p:spPr>
            <a:xfrm>
              <a:off x="6581880" y="1341000"/>
              <a:ext cx="1828800" cy="12794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District sanitair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 ECD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Rectangle 5"/>
            <p:cNvSpPr/>
            <p:nvPr/>
          </p:nvSpPr>
          <p:spPr>
            <a:xfrm>
              <a:off x="3394080" y="4808520"/>
              <a:ext cx="1981080" cy="129528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CSPS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(prestataire des soins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9" name="Connecteur droit avec flèche 7"/>
            <p:cNvCxnSpPr/>
            <p:nvPr/>
          </p:nvCxnSpPr>
          <p:spPr>
            <a:xfrm>
              <a:off x="2441160" y="1736280"/>
              <a:ext cx="38869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" name="Connecteur droit avec flèche 8"/>
            <p:cNvCxnSpPr/>
            <p:nvPr/>
          </p:nvCxnSpPr>
          <p:spPr>
            <a:xfrm flipH="1">
              <a:off x="2459880" y="2449080"/>
              <a:ext cx="38487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" name="Connecteur droit avec flèche 11"/>
            <p:cNvCxnSpPr>
              <a:endCxn id="67" idx="2"/>
            </p:cNvCxnSpPr>
            <p:nvPr/>
          </p:nvCxnSpPr>
          <p:spPr>
            <a:xfrm flipV="1">
              <a:off x="5329080" y="2620440"/>
              <a:ext cx="2167560" cy="243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2" name="Connecteur droit avec flèche 12"/>
            <p:cNvCxnSpPr/>
            <p:nvPr/>
          </p:nvCxnSpPr>
          <p:spPr>
            <a:xfrm>
              <a:off x="585000" y="2544120"/>
              <a:ext cx="2809080" cy="26679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" name="ZoneTexte 19"/>
            <p:cNvSpPr/>
            <p:nvPr/>
          </p:nvSpPr>
          <p:spPr>
            <a:xfrm>
              <a:off x="2603160" y="1351080"/>
              <a:ext cx="335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inanceme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ZoneTexte 21"/>
            <p:cNvSpPr/>
            <p:nvPr/>
          </p:nvSpPr>
          <p:spPr>
            <a:xfrm rot="2580000">
              <a:off x="419400" y="3892680"/>
              <a:ext cx="273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trat De Prest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ZoneTexte 25"/>
            <p:cNvSpPr/>
            <p:nvPr/>
          </p:nvSpPr>
          <p:spPr>
            <a:xfrm>
              <a:off x="3645000" y="173736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ui Techniqu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ZoneTexte 26"/>
            <p:cNvSpPr/>
            <p:nvPr/>
          </p:nvSpPr>
          <p:spPr>
            <a:xfrm>
              <a:off x="3020040" y="2448720"/>
              <a:ext cx="274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ièces Justificativ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7" name="Connecteur droit avec flèche 27"/>
            <p:cNvCxnSpPr/>
            <p:nvPr/>
          </p:nvCxnSpPr>
          <p:spPr>
            <a:xfrm flipH="1">
              <a:off x="5374800" y="2728800"/>
              <a:ext cx="2807280" cy="32076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" name="ZoneTexte 37"/>
            <p:cNvSpPr/>
            <p:nvPr/>
          </p:nvSpPr>
          <p:spPr>
            <a:xfrm rot="18840000">
              <a:off x="5422320" y="3937320"/>
              <a:ext cx="106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Factu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ZoneTexte 42"/>
            <p:cNvSpPr/>
            <p:nvPr/>
          </p:nvSpPr>
          <p:spPr>
            <a:xfrm rot="18720000">
              <a:off x="5026680" y="4058280"/>
              <a:ext cx="427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Approvisionnement des comptes après contrôle, suivi/ Supervis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ZoneTexte 21"/>
          <p:cNvSpPr/>
          <p:nvPr/>
        </p:nvSpPr>
        <p:spPr>
          <a:xfrm rot="2580000">
            <a:off x="680760" y="3508200"/>
            <a:ext cx="30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rôle conjoint ECD + Hel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6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1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marche de la RA/forfa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teliers d’échanges et de réflexion avec les parties prenant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alcul du montant forfaitaire : moyenne arrondie des coûts réels de 6 CSPS sur 30 mois (Jan09-Juin1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troduction progressive ( avec et sans risque financier): 2 groupes de CS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41360" y="2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éthodologie de mise en œuvre du forfait (2/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72880"/>
            <a:ext cx="8229600" cy="56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gnature de convention entre le tiers payant et les prestataires ( ICP + CO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ptabilisation à partir des registres de consultation/ cahiers de vente journali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aiement mensuel par le tiers pay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tinuation des contrôles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 posteriori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ux niveaux CSPS et communaut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ncontres de suiv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mposition du montant forfait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Diagramme 16" descr=""/>
          <p:cNvPicPr/>
          <p:nvPr/>
        </p:nvPicPr>
        <p:blipFill>
          <a:blip r:embed="rId1"/>
          <a:stretch/>
        </p:blipFill>
        <p:spPr>
          <a:xfrm>
            <a:off x="212760" y="1127160"/>
            <a:ext cx="8493120" cy="5445000"/>
          </a:xfrm>
          <a:prstGeom prst="rect">
            <a:avLst/>
          </a:prstGeom>
          <a:ln w="0">
            <a:noFill/>
          </a:ln>
        </p:spPr>
      </p:pic>
      <p:sp>
        <p:nvSpPr>
          <p:cNvPr id="87" name="Explosion 2 3"/>
          <p:cNvSpPr/>
          <p:nvPr/>
        </p:nvSpPr>
        <p:spPr>
          <a:xfrm>
            <a:off x="5791320" y="1219320"/>
            <a:ext cx="3352680" cy="2057400"/>
          </a:xfrm>
          <a:prstGeom prst="irregularSeal2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Toutes les path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4T22:10:59Z</dcterms:created>
  <dc:creator>paho</dc:creator>
  <dc:description/>
  <dc:language>en-US</dc:language>
  <cp:lastModifiedBy>KABORE</cp:lastModifiedBy>
  <dcterms:modified xsi:type="dcterms:W3CDTF">2015-06-08T18:19:27Z</dcterms:modified>
  <cp:revision>126</cp:revision>
  <dc:subject/>
  <dc:title>PowerPoint Presentation</dc:title>
</cp:coreProperties>
</file>